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06B-D084-4336-9A21-F0D8270E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B6B-1C94-4245-A6D8-BC788806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C9A-B03E-4AD6-90DF-FD7F3F8E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5267-E6E0-4072-BF5A-3808B7A1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477-560B-4E3C-B200-B2C1B9BD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4B6-6914-4C6A-B62F-B36F525A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A80-EFC5-485E-89C1-C781D9C6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629-FA86-4412-AAC2-88668F09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8C9-2DC8-4513-A6DF-A47BA02E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3C6-B119-4041-9378-E42AF520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358-4687-46F8-887F-31675BA1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748-5E56-4DEF-9BCA-7AC742DF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FAC2-14A5-40CA-8D0C-59D6BE278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58672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4:46Z</dcterms:created>
  <dc:creator>Anon Anon</dc:creator>
  <dc:description/>
  <dc:language>en-US</dc:language>
  <cp:lastModifiedBy>Anon Anon</cp:lastModifiedBy>
  <dcterms:modified xsi:type="dcterms:W3CDTF">2005-08-16T04:24:18Z</dcterms:modified>
  <cp:revision>14</cp:revision>
  <dc:subject/>
  <dc:title>PowerPoint Presentation</dc:title>
</cp:coreProperties>
</file>